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0C7-FE6E-4F0B-946A-09DB64E4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C51-69DE-40BE-9117-0E589E92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70B-C402-4011-88FF-625EFA03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30D-FD11-4E85-8486-5AD244ED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9F89-B350-4FB7-9D86-DBC8D784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E327-D141-410C-8A13-121BCE77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E33C-7B49-4B2E-9847-0FEE166E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61CA-F5C0-4534-9468-FB5F88C9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51D-297B-40F1-8F44-9A3F4380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5B80-61BB-4615-99EF-639A0346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30E4-7CF8-43C8-BFFC-E73F786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C62-619D-4A32-B717-B4DF6193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FCA8-C193-4AA2-A77D-2A8EEFAC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B21D-343D-42FA-8DD4-C56B73B9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7410-18A9-4112-A4F0-6079813E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FB9F-8B53-4673-B912-8DE8FC22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37E8-8266-4CA6-97EB-5A469639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44E-1BF2-467F-A014-7FAB2C2C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5A2-09A0-4675-A64A-BCB57C04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675-744F-465D-88AC-640DBA0C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A2E-B707-4E81-9F02-6FBAFEEF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E6E-7674-4747-87E6-D1E6F74F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9CD-F552-4B1D-84FF-CF24D2F4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652-B0FB-423E-91F0-ECAA4742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BF1C-2AE4-4D1A-AEA5-8A470D1634C1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A456-9BB9-47CA-B3D0-0D8D231A3D78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iMovie/6-12/Session 3 of 3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shop Titl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tudents will share the following aspects of their project: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Explain how the choices you have made regarding the video effects and audio have enhanced your movie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Lucida Grande"/>
              </a:rPr>
              <a:t>Why did you make these particular choices?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solidFill>
            <a:srgbClr val="d9b18d"/>
          </a:solidFill>
          <a:ln w="9360">
            <a:solidFill>
              <a:srgbClr val="212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e have seen how the choices we make as editors can effect the stor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d2204"/>
                </a:solidFill>
                <a:latin typeface="Arial"/>
              </a:rPr>
              <a:t>We have observed how title sequences, video effects, and transitions can add to or subtract from the overall impact of a movie.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import audio and add audio effects in iMovi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can we share our movies with other peop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w do we add video effects to our movie clip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udio, whether it is from a CD, computer recording, or GarageBand has the ability to enhance dramatic moments in a movi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ce an iMovie is created there are many different methods of distributio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t can be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played on a websit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ent via emai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ewed on a compu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burned on a DV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ideo effects can be used to alter a clip. Effects can be used to alter the speed of the clip, add special effects to the clip, or turn a clip to black and whit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possible sources of digital audio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icrophone (built into the computer or external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line downloa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C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are video effect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oday’s skill will focus 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importing audio into iMovi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effec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1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aving the movie in a format everyone can view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Lucida Grande"/>
              </a:rPr>
              <a:t>(see the tutorial for specific instruction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etting Started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    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Take the next 30 minutes to import audio. Add video effects (if necessary) and transitions to your movies. After 30 minutes we will come back together and shar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64"/>
                </a:solidFill>
                <a:latin typeface="Lucida Grande"/>
              </a:rPr>
              <a:t>Participant Activity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Import audio into iMovie and include it in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Add video effects to your movie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ave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599"/>
              </a:spcAft>
              <a:buClr>
                <a:srgbClr val="212164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Lucida Grande"/>
              </a:rPr>
              <a:t>Share (export) your iMovie projec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2:24:10Z</dcterms:created>
  <dc:creator>NYCD DOE</dc:creator>
  <dc:description/>
  <dc:language>en-US</dc:language>
  <cp:lastModifiedBy>NYCD DOE</cp:lastModifiedBy>
  <dcterms:modified xsi:type="dcterms:W3CDTF">2007-03-06T15:05:50Z</dcterms:modified>
  <cp:revision>21</cp:revision>
  <dc:subject/>
  <dc:title>Workshop Title</dc:title>
</cp:coreProperties>
</file>